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1D9-DD91-4F40-9FE1-10BA9B85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049-E32D-41C9-B1B8-BE29902A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17A-50E4-4264-8BB9-9B271CB4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464-5DFC-4C54-81DE-4208D845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B93-EC49-4803-A63E-22768A58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146-7CDA-478B-994A-009A8B6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30B-222A-4D55-8DEB-1E39C01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282-C3A0-43B4-B5F9-46D529D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8B7-024C-4983-A832-6F7C7CA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05B-EAFB-40B0-A9AD-459F78C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4F5-7A7A-4738-8429-72F840F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C63-403D-4D20-AD2F-2DAF035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8AB81-4777-4E93-A6E6-AAE5EA053D6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566280"/>
            <a:ext cx="9070920" cy="7396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6000" y="71280"/>
            <a:ext cx="9504360" cy="158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31640" y="2084400"/>
            <a:ext cx="90712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COLA ESTADUAL EDUARDO PEREZ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GETEC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GRAZIELA DA COSTA SALLES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ULTIPLICADOR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: MERCEDES GOULART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RENOS/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6120" y="1913040"/>
            <a:ext cx="8451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DO NÚCLEO DE TECNOLOGIAS EDUCACIONAIS REG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GED NTE-REG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ma 22 – A arte de estudar e apre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Grupo 3 – DESAC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vro: Metodologia para quem quer aprender.São Paulo: Atlas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(Pedro Dem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6000" y="71280"/>
            <a:ext cx="950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91680"/>
            <a:ext cx="9070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C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ar é reconstruir o conhecimento (inovação e renovação), porém a sociedade tem em todos os níveis escolares o instrucionismo como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é necessário desconstruir essa base e refletir sobre o aluno que reconstrói, pesquisa, elabora, é critico e au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tanto o professor precisa dessa reconstrução de ser autor e construir os conhecimentos apreendidos de maneira a pesquisar e elaborar seus materi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480" y="69832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59280" y="701208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8720" y="431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utor relata sobre a escola, porém descreve o professor como vítima desse sistema instrucionista, e, ressalta a importância de “estudar para a vida” , assim ele conseguirá refletir suas práticas e rever as habilidades que poderá trabalhar com os alunos (independe do grau de escolarida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083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76720" y="7083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480" y="1000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176720" y="712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136000" y="7083360"/>
            <a:ext cx="194472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13840" y="71280"/>
            <a:ext cx="1766880" cy="4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8720" y="9507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dução é a base da aprendizagem tanto do professor quanto do aluno pois assumi o compromisso de apresentar somente o que pesquisou, elaborou, reconstruiu e apreendeu, tornando-se autor autôn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exto também aborda a pesquisa que deve ser um procedimento metódico, refletido, bem feito e elaborado. Toda pesquisa sobre o olhar do autor deve conter um questionamento reconstrutivo, para que se interprete dados e os questione antes de apresenta-los como verdadeiro ou f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016760"/>
            <a:ext cx="40194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60960" y="7056360"/>
            <a:ext cx="4019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50157" b="0"/>
          <a:stretch/>
        </p:blipFill>
        <p:spPr>
          <a:xfrm>
            <a:off x="4056120" y="7016760"/>
            <a:ext cx="2004840" cy="542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9363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 estudo tem sido de instrução e não de reconstrução do conhecimento nota-se que uma grande parte dos alunos chegam ao ultimo ano do ensino fundamental II sem entenderem o que estão lendo. Não são autores, o que faz refletir sobre como nós professores devemos estar atentos não a quantidade de conteúdos, mas quais as habilidades que queremos desenvolver em nós e em nosso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2360" y="7343640"/>
            <a:ext cx="7086600" cy="15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4:09:04Z</dcterms:created>
  <dc:creator/>
  <dc:description/>
  <dc:language>en-US</dc:language>
  <cp:lastModifiedBy/>
  <dcterms:modified xsi:type="dcterms:W3CDTF">2015-03-26T15:22:04Z</dcterms:modified>
  <cp:revision>2</cp:revision>
  <dc:subject/>
  <dc:title/>
</cp:coreProperties>
</file>